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E62-2A75-4EA7-95A2-557C1DCA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9B3-F334-4BE1-B821-9021B2CE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00C-CFDA-4CC2-BA17-F206762F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9E0-4DA4-4DDE-8C7D-3E295F27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598-BAA6-4658-A327-45620F11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172-FC53-42B1-B83B-D7769AD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E2E-9976-4BD4-AAB2-F2C09DE7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483-D4A5-456D-9B89-517D378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D46-56AB-45D7-BDFF-972E28DD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43C-3A46-48AA-BA10-FE4A99C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BAD-A115-42AB-9A18-546B255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7B0-7CFC-44FC-B7D3-4E5CB83C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4467-4216-484C-9EBF-8222BBF9A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sisfun.com/graph/straight_line_graph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33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atty"/>
              </a:rPr>
              <a:t>Ymarfer Amnew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2640"/>
            <a:ext cx="8064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y = 2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yfrifwch y os y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 = -2, x = 0 a x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3213000"/>
            <a:ext cx="87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x yw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entury Gothic"/>
              </a:rPr>
              <a:t>mewnbwn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y yw’r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entury Gothic"/>
              </a:rPr>
              <a:t>allb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1557360"/>
            <a:ext cx="3168360" cy="194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-2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6360" y="700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0256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856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1835280" y="2133720"/>
            <a:ext cx="576108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Ymchwilio i linellau sy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0256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349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-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1909800"/>
            <a:ext cx="2449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</a:rPr>
              <a:t>x 2 +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2 +1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3 +1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6000" y="15638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692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3 +4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15638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692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8:37:15Z</dcterms:created>
  <dc:creator>Betsan Thomas</dc:creator>
  <dc:description/>
  <dc:language>en-US</dc:language>
  <cp:lastModifiedBy>Betsan Wyn Thomas</cp:lastModifiedBy>
  <dcterms:modified xsi:type="dcterms:W3CDTF">2008-06-10T21:13:19Z</dcterms:modified>
  <cp:revision>4</cp:revision>
  <dc:subject/>
  <dc:title>Slide 1</dc:title>
</cp:coreProperties>
</file>